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AF4E-AA15-4001-89B5-2E08ABE6F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FD7F-76E4-4D7A-B233-01C729F9D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F50C-AA17-4F3B-BE9B-D87E54D3E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DD95-D2A2-43ED-8223-6C6C5CFB2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E58-3DEE-4977-981D-5A7DBB99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505-3C1D-4B02-A039-8854AF06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350-D583-4382-9E32-122A85F6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E2F-ABE1-4759-9CC5-652276AB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8EA-27C2-4161-8D82-9336EF34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E74-7441-4106-844C-6B043734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805-9B6B-465A-AAB3-8A836BE9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1A1-8CF6-47C0-B9F7-544412D9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8E6-8F93-409A-9928-68A34405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A9A-F967-4DBB-A85E-747BB68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A75-BE27-4FBD-A05B-16CF8CC8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9A2-07CC-438D-B1A4-D1C6FF9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957F-215F-4F1C-8F38-7D737DE40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14400" y="685800"/>
            <a:ext cx="7659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hiller"/>
              </a:rPr>
              <a:t>BERRY FULL OF DNA: STRAWBERRY DNA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92240"/>
            <a:ext cx="9144000" cy="7121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10680" y="0"/>
            <a:ext cx="85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averycoonley.org/news/60460/ACS-News-Whats-new-in-biology-today...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24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6:28:40Z</dcterms:created>
  <dc:creator>Angie</dc:creator>
  <dc:description/>
  <dc:language>en-US</dc:language>
  <cp:lastModifiedBy>Angie</cp:lastModifiedBy>
  <dcterms:modified xsi:type="dcterms:W3CDTF">2011-03-29T06:47:26Z</dcterms:modified>
  <cp:revision>4</cp:revision>
  <dc:subject/>
  <dc:title>Slide 1</dc:title>
</cp:coreProperties>
</file>